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1AFC-D023-4DAC-AD81-D0A5EB0D4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50B7-9205-4B80-A82A-2403657E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FA62-8A03-4F4F-9130-D19AB244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185E-E5E9-4475-A02F-EAA6B7C3E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78B56-7EC7-4D47-8891-2808EAE11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F6302-DD41-4A4E-A712-758E6702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83A4C-B3DA-4C61-9408-1EE326B2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AFD44-B7FF-4971-B55C-4D6AE275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2BE1F-5CE5-4F06-B2F6-7C615532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3AAD1-DA3E-4022-9DBC-DDAA4E25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4C6CA-F673-43CD-BE49-42B76B07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D098-A437-4919-9496-FD88A461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E58F3F-AC1E-4B73-8CDC-3518B5A5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9677D-BBDA-4B40-86D8-0BDD0BB0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D4ACC-AF31-492A-B163-50F64CAC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5B1A5-9349-41B1-8A62-A368B03CE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73F7C-2A95-48F5-81CD-54F8FB032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2902-7F36-461E-80B3-8E57229F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2F26-A957-4691-986F-62D44EB9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253E-1EC2-4D21-812F-ADC09387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7EEB-CAA4-4031-B922-F492F66F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FE42-0575-4C30-9EE3-FF0D93EA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42B9-9D12-4CD5-A82E-F9DF1E60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8329-9B8C-4EDC-82C6-0F4C7E27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B120-0564-4937-A5B5-FC15300A1E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E465-C3AA-40C2-8079-29977CF8B9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ff33"/>
                </a:solidFill>
                <a:uFillTx/>
                <a:latin typeface="Monotype Corsiva"/>
              </a:rPr>
              <a:t>                 </a:t>
            </a:r>
            <a:r>
              <a:rPr b="0" lang="en-US" sz="4400" spc="-1" strike="noStrike" u="sng">
                <a:solidFill>
                  <a:srgbClr val="66ff33"/>
                </a:solidFill>
                <a:uFillTx/>
                <a:latin typeface="Monotype Corsiva"/>
              </a:rPr>
              <a:t>La globalizzazione</a:t>
            </a:r>
            <a:r>
              <a:rPr b="0" lang="en-US" sz="4400" spc="-1" strike="noStrike" u="sng">
                <a:solidFill>
                  <a:srgbClr val="00c600"/>
                </a:solidFill>
                <a:uFillTx/>
                <a:latin typeface="Monotype Corsiva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484360" y="1773360"/>
            <a:ext cx="41036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50000">
              <a:srgbClr val="4d0808"/>
            </a:gs>
            <a:gs pos="100000">
              <a:srgbClr val="fff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 rot="1162200">
            <a:off x="179280" y="1557360"/>
            <a:ext cx="2592360" cy="1871640"/>
          </a:xfrm>
          <a:prstGeom prst="rightArrow">
            <a:avLst>
              <a:gd name="adj1" fmla="val 50000"/>
              <a:gd name="adj2" fmla="val 3462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Miglioramento mezzi d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comunicazi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0569200">
            <a:off x="178920" y="3716280"/>
            <a:ext cx="2737080" cy="1728720"/>
          </a:xfrm>
          <a:prstGeom prst="rightArrow">
            <a:avLst>
              <a:gd name="adj1" fmla="val 50000"/>
              <a:gd name="adj2" fmla="val 39582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Miglioramento mezzi d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traspor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40000" y="3141720"/>
            <a:ext cx="3311640" cy="79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Monotype Corsiva"/>
              </a:rPr>
              <a:t>La globalizzazi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35640" y="3789360"/>
            <a:ext cx="936720" cy="863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11640" y="3933720"/>
            <a:ext cx="73080" cy="719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211640" y="2204640"/>
            <a:ext cx="73080" cy="792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292720" y="2997000"/>
            <a:ext cx="936720" cy="215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72360" y="2133720"/>
            <a:ext cx="2447640" cy="863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Libera circolazione di mer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4149720"/>
            <a:ext cx="2303280" cy="1081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Stili di vita simi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48000" y="4724280"/>
            <a:ext cx="2160720" cy="1052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Riduzione distan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2000" y="1125360"/>
            <a:ext cx="2303640" cy="10814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Libera circolazione d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pers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356000" y="475920"/>
            <a:ext cx="1513080" cy="6490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40360" y="189000"/>
            <a:ext cx="1944720" cy="1008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Monotype Corsiva"/>
              </a:rPr>
              <a:t>Immigrazione e citt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Monotype Corsiva"/>
              </a:rPr>
              <a:t>multietni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7T09:38:42Z</dcterms:created>
  <dc:creator>studente</dc:creator>
  <dc:description/>
  <dc:language>en-US</dc:language>
  <cp:lastModifiedBy>studente</cp:lastModifiedBy>
  <dcterms:modified xsi:type="dcterms:W3CDTF">2017-01-09T10:35:07Z</dcterms:modified>
  <cp:revision>12</cp:revision>
  <dc:subject/>
  <dc:title>Diapositiva 1</dc:title>
</cp:coreProperties>
</file>